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153-5F89-4939-A271-9E3D98C0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645-DD37-463A-B5EC-1BD11A62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8B7-189D-4601-A668-163AF067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C1D-3080-46FA-81A0-5D428D80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95D0-AE02-4C1B-A5DB-8BD13090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C6A2-EF42-4FCF-BF3D-57AFDF53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17B7-35C7-4FA5-9655-F3087259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6558-922B-4E81-9E93-D71826FA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9881-AFDF-4115-820E-26D5524E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A330-CE14-428F-914B-11A83DE5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80B2-7163-485D-9509-F971CA29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C63-408E-4A3D-85A4-3BFBC762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053A-9B63-4C1E-9063-9B0C425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D20E-9C12-4795-91E9-D215605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E7F3-BC9A-4766-9FE7-09145186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AF97-CBE9-4F05-ABE5-9048E654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54AE-A31A-4ACE-BEB2-771C5524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039-3AD3-40FF-8078-B40E5CE6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45E-809E-4AD3-A50F-6C1FE3B1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5B8-85EF-43FA-8F15-69AD5AA5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4D3-7DAA-460B-ACC6-E8990A70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4FD-5E53-4E10-A89F-BBA9665C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582-3E64-4868-98A4-49BA90C1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55D-3E91-4907-9B4C-ED59FE68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B71-24B6-41B7-878B-D6C57B6D9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7AFE-FF91-4CB6-AE65-815CB3457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83808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utting Together the Pieces of Differenti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484440"/>
          </a:xfrm>
          <a:prstGeom prst="rect">
            <a:avLst/>
          </a:prstGeom>
          <a:solidFill>
            <a:srgbClr val="d8e1e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reflection paragraph in noting which strategies from today you plan to try and how you plan to implemen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2286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osu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a differentiation strategy this week-reflect in discussion thread on wiki how it worked and what you’d change next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e on 4-17-1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Incorporate various models of co-teaching into an upcoming lesson plan-post a reflective journal on week 4 on wiki about the model(s)  you chose, why you chose them and what could have been done different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you already differentiate in your class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0272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plore aspects of differentiation and their applications for students in the co-taught classro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rainstor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8653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is differentiation especially important in a co-taught cla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rpose for viewi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does the message of this video set the stage for differenti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youtube.com/watch?v=_A-ZVCjfWf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85800" y="228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deo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tly complete the Bender Classroom Structure Questionna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completing it, discuss the results with your part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the pre-assessment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Assessment, Differentiation, and Extension Menu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green light or stop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152280"/>
            <a:ext cx="7086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-Assess Your Understan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941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category, note whether you chose the green light or the stop sign.  Complete the activity in that box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should complete 3 activities (one for each categor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52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fferentiation Men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29509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Writ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Vocabular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152280"/>
            <a:ext cx="7772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fferentiation Strateg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1:27:20Z</dcterms:created>
  <dc:creator>fcps</dc:creator>
  <dc:description/>
  <cp:keywords/>
  <dc:language>en-US</dc:language>
  <cp:lastModifiedBy>Journell-Hoch,Cindy D</cp:lastModifiedBy>
  <dcterms:modified xsi:type="dcterms:W3CDTF">2012-04-10T15:31:24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